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8DD-D9E5-4CBE-840B-BB94EB63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981-DF96-4241-A6A0-483ADC22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40B-54F7-45A3-A826-336423D7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68E-EE87-4EE3-9E04-EA0EC142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63B-CFBF-4CE9-9C14-F2469D95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FC1-972F-4D4F-A2F0-61C0AD17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308-194D-435A-8DB4-A70797A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DA2-9978-407B-8C31-CE90F7E7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95B-27C1-40DD-BE14-4CF5EA44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E53-78C6-4B35-AAC9-7FC9B7B2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FB5-AE59-416B-AF9E-A31140E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14F-391B-4B37-80BC-31A4D682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252A-287D-4FAC-9BAD-68C7F05D9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84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اسماء خالدة </a:t>
            </a:r>
            <a:br>
              <a:rPr sz="4400"/>
            </a:b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من شرح 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1692360" cy="19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640" y="45007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62b7be"/>
                </a:solidFill>
                <a:latin typeface="Arial"/>
              </a:rPr>
              <a:t>للشيخ سليمان اللهم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السيده عائشه رضي الله تعالى عنها</a:t>
            </a:r>
            <a:br>
              <a:rPr sz="4400"/>
            </a:br>
            <a:r>
              <a:rPr b="0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سمها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  <a:ea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نت ابى بكر الصديق رضى الله عن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ح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النساء الى النبى صلى الله عليه وسلم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زوجها النبى عليه الصلاه وال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عد وفاه خديجه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ضى الله عن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cc0099"/>
                </a:solidFill>
                <a:latin typeface="Arial"/>
                <a:cs typeface="Arial"/>
              </a:rPr>
              <a:t>حبيبة النبي صلى الله عليه وسل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نزل الوح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على الرسول صلى الله عليه وسلم فى لحاف امرأة سواها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  <a:cs typeface="Arial"/>
              </a:rPr>
              <a:t>المبرئ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من فوق سبع سماوا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0099"/>
                </a:solidFill>
                <a:latin typeface="Arial"/>
                <a:cs typeface="Arial"/>
              </a:rPr>
              <a:t>حبيبه رسول الله صلى الله عليه وسلم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16000" y="1628640"/>
            <a:ext cx="936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م يتزوج النبى صلى الله عليه وسلم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كر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غير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 من قذفها فهو كافر بإجماع 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cs typeface="Arial"/>
              </a:rPr>
              <a:t>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ه محمد صلى الله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يه وسلم لأنه مكذب بالق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سئل النبى صلى الله عليه وسلم "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ى الناس احب اليك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يا رسول الله؟ قال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 :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ه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,</a:t>
            </a:r>
            <a:r>
              <a:rPr b="1" lang="ar-KW" sz="40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ثم قيل من الرجال؟ قال ابوها</a:t>
            </a:r>
            <a:r>
              <a:rPr b="1" lang="ar-KW" sz="36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rial"/>
              </a:rPr>
              <a:t>وفاته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صلى الله عليه وسلم" يا عائشه هذا جبريل وهو يقرأ عليك السلام</a:t>
            </a:r>
            <a:r>
              <a:rPr b="1" lang="ar-KW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Arial"/>
                <a:cs typeface="Arial"/>
              </a:rPr>
              <a:t>وهى من اعلم اهل الارض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ابو موسى " ما اشكل علينا اصحاب محمدصلى الله عليه وسلم حديث ق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سألنا عائشه الا وجدنا عندها منه علم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اتت رضى الله عنها وارضاها سنه سبع وخمسون وقيل ثمان وخمسو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هذا العمل اعداد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cs typeface="Arial"/>
              </a:rPr>
              <a:t>طالبات دورة شرح </a:t>
            </a:r>
            <a:r>
              <a:rPr b="1" i="1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في ملتقى طالبات ال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63600">
            <a:off x="394920" y="436536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591200">
            <a:off x="2268360" y="407628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719800">
            <a:off x="4895640" y="432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18433800">
            <a:off x="6912000" y="3897000"/>
            <a:ext cx="169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20:08Z</dcterms:created>
  <dc:creator> HEART</dc:creator>
  <dc:description/>
  <dc:language>en-US</dc:language>
  <cp:lastModifiedBy> HEART</cp:lastModifiedBy>
  <dcterms:modified xsi:type="dcterms:W3CDTF">2007-07-02T11:29:35Z</dcterms:modified>
  <cp:revision>2</cp:revision>
  <dc:subject/>
  <dc:title>اسماء خالدة  من شرح متن الاربعين النوويه</dc:title>
</cp:coreProperties>
</file>