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C57A-6B38-4283-B506-30D015AF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278-1D7E-46E4-BE87-2F30F945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7216-1031-425E-A7D2-D5F7ED13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D02-5D95-4210-81D6-F8D26E03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5C6-F0BC-487E-A439-8B77EE27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4F0-7B2E-4DF6-A517-5E1C8931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CC9-A347-441B-94A8-0714D8CE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0DB-9066-4499-85CC-D330237C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D445-DDD3-4F1D-94B1-39B68209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B84-9F04-4B81-A1BA-1E0BB4EA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117-C5B3-439F-A5FB-D601BFBF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7B9-6072-4AA3-ADA5-44A97FA2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EFAE-34B1-4C0A-9CC1-910C8F2F8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cc6600"/>
                </a:solidFill>
                <a:latin typeface="Arial"/>
              </a:rPr>
              <a:t>أسماء خالدة..من محاضرات شرح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00000" y="436536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>
                <a:solidFill>
                  <a:srgbClr val="967f1e"/>
                </a:solidFill>
                <a:latin typeface="Arial"/>
              </a:rPr>
              <a:t>للشيخ : سليمان الله</a:t>
            </a:r>
            <a:r>
              <a:rPr b="1" lang="ar-SA" sz="3600" spc="-1" strike="noStrike">
                <a:solidFill>
                  <a:srgbClr val="967f1e"/>
                </a:solidFill>
                <a:latin typeface="Arial"/>
              </a:rPr>
              <a:t>ي</a:t>
            </a:r>
            <a:r>
              <a:rPr b="1" lang="ar-KW" sz="3600" spc="-1" strike="noStrike">
                <a:solidFill>
                  <a:srgbClr val="967f1e"/>
                </a:solidFill>
                <a:latin typeface="Arial"/>
              </a:rPr>
              <a:t>م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19760" y="836640"/>
            <a:ext cx="35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67f1e"/>
                </a:solidFill>
                <a:latin typeface="Arial"/>
              </a:rPr>
              <a:t>ترجمه ابن عم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95280" y="1987200"/>
            <a:ext cx="1019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بد الله ابن عمر صاحبى جليل اسلم مع ابيه وهو صغير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قال الذهبى عنه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: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لامام القدوة شيخ الاسلام ابو عبد الرحمن القرش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لعدوى المكى المدنى ا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15920" y="3716280"/>
            <a:ext cx="7947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صغير وهاجر مع ابيه ولم يحتلم واستصغر يوم اح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فأول غزواته هى الخندق</a:t>
            </a: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مما كان بايع تحت الشجرة روى علم كثير ناف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ن النبى صلى الله عليه و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من المكثرين فى علم الحديث عن النبى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252000"/>
            <a:ext cx="8161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يقول ابن عمر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عرضنى الرسول فى يوم احد وانا اب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فرفضن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وعرضنى فى الخند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وانا اب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15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فاجزنى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000" spc="-1" strike="noStrike">
                <a:solidFill>
                  <a:srgbClr val="cc6600"/>
                </a:solidFill>
                <a:latin typeface="Arial"/>
              </a:rPr>
              <a:t>رواة البخارى ومسلم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،،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قد كان مجاهد منذ نعومه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ضفا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كا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عابد كثير العبادة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وقيل لنافع ماذا كان ابن عمروفى منزله قال لاتطيقونه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يتوضا لكل صلاة والمصحف فيما بين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284640"/>
            <a:ext cx="62755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قد قال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النبى </a:t>
            </a:r>
            <a:r>
              <a:rPr b="1" lang="ar-KW" sz="2400" spc="-1" strike="noStrike">
                <a:solidFill>
                  <a:srgbClr val="967f1e"/>
                </a:solidFill>
                <a:latin typeface="Arial"/>
              </a:rPr>
              <a:t>صلى الله عليه وسلم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ن عبد الله ابن ع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نعم الرجل عبد الله لو كان يصل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ي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من الليل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قال سالم فكان بعدها لاينام من الليل الا قليل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..</a:t>
            </a:r>
            <a:r>
              <a:rPr b="1" lang="ar-SA" sz="2000" spc="-1" strike="noStrike">
                <a:solidFill>
                  <a:srgbClr val="cc6600"/>
                </a:solidFill>
                <a:latin typeface="Arial"/>
              </a:rPr>
              <a:t>رواة البخار ومسل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قيل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فى روايه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نعم عبد الله رجل لو كان يكثر الصلاة باليل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"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يقول الحافظ ابن حجر بمقتضاه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ان من كان يصل اللي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يوصف بكونه نعم الرجل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987840" y="621000"/>
            <a:ext cx="1131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كان عمر من الزهاد فقال عنه ابن مسعود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”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ن املك شباب قري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 نفسه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عن الدنيا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هو ابن عمر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قد اتينا ونحن متوافرو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ما قينا شاب املك لنفسه من ابن عمر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قالت عائشه رضى الله عنه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ارايت احد الزم من الامر الاو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ن ابن عمر 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"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91880" y="3357720"/>
            <a:ext cx="78130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قال نافع كلما قرا ابن عمر قوله تعال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“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الم يان للذين ءامنوا ان تخشع قلوب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لذكر الله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بكى حتى يغلبه البكاء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ذكر انه كلما ذك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الرسول صلى الله عليه وسلم بكى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692280"/>
            <a:ext cx="7176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روى عن النبى قال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احق امرء مسلم له شىء يوصى به يبيت فوق ليلتين الا ووصيت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كتوبه عند رأسه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قال ابن عمر فو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الله ما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رت علي ليله منذ ان سمعت رسول الله يقول ذ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 الا وعندي وصي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1480" y="3860640"/>
            <a:ext cx="686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توفى ابن عمر وهو عمرة 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85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س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.فى عام 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73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من الهج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1210000">
            <a:off x="0" y="98064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20493600">
            <a:off x="401400" y="2060640"/>
            <a:ext cx="755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967f1e"/>
                </a:solidFill>
                <a:latin typeface="Arial"/>
              </a:rPr>
              <a:t>اعداد طالب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967f1e"/>
                </a:solidFill>
                <a:latin typeface="Arial"/>
              </a:rPr>
              <a:t>ملتقى طالبات العل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3:10:35Z</dcterms:created>
  <dc:creator> HEART</dc:creator>
  <dc:description/>
  <cp:keywords/>
  <dc:language>en-US</dc:language>
  <cp:lastModifiedBy>xp</cp:lastModifiedBy>
  <dcterms:modified xsi:type="dcterms:W3CDTF">2007-07-02T10:47:08Z</dcterms:modified>
  <cp:revision>3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11025</vt:lpwstr>
  </property>
</Properties>
</file>